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C34-7EE6-4DAF-B03A-731115F9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CCC-C4B1-4281-9C46-6F56DF16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21B-15C8-43BF-BCC0-55074AD2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613-FDBE-4021-A23B-F6A7DB6F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B7BF-22E6-4B00-8C85-E6C2168C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7009-7460-41D8-8FBE-4ABA79FF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AC47-BE2A-4FBF-8A36-7766BC37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7148-5350-40F7-9B7B-22280EA3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8935-AFBA-4A3D-81EE-FDD327F5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B3E9-B841-488A-A26D-AC49767E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3440-0DC8-4602-81B2-8F4C35A5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A0F-E951-44BC-AB6C-62449060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B768-A810-4F79-A70D-FE2805AF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6B73-8E1F-4585-AA6E-D6104225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55AA-B4C0-4AD8-B7CE-5C2ACCD2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6FE4-81E7-44A1-BDC9-AE63CD6A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58BF-4FC1-402A-86FE-F5367F13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B49-D51A-4FAC-A790-FE5591FA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AC7-5958-48C1-9903-DCB5A903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9B7-484D-4C5B-97D8-98C08A7C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2F8-DE57-466E-9F72-12AF9850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FA3-3D82-48A4-8A20-EF954580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39C-3918-42C5-9E31-16D5CBF5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582-7D06-4E00-A13E-2879D39D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5464-43AC-42DE-8DB8-C2ADD2402C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EE55-CAC3-45C9-B734-2F2C97A702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зработка траншей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Частичное укрепление транше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055520" y="593892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оступно использование разных способов крепления стен траншеи (в т.ч. без укрепления) на различных ее участках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1360440" y="1179360"/>
            <a:ext cx="6827760" cy="44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Автоматический подбор консольных крепл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154160" y="5418000"/>
            <a:ext cx="758988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траншей с глубиной до 5,5 метров (кроме слабых грунтов и водонасыщенных песков) существует возможность автоматического подбора консольных крепл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дбор осуществляется по расчетным таблицам "Альбома технологических карт на разработку траншей в креплениях для подземных коммуникаций. Часть 3. Расчетные таблицы для подбора элементов консольных креплений" (Трест Мосоргинжстрой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1555920" y="1393920"/>
            <a:ext cx="6686280" cy="37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полнение раскладки труб и расчет обратной засып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2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057320" y="5959440"/>
            <a:ext cx="758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76400" y="59310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меется возможность выполнить раскладку труб в траншее и рассчитать объем обратной засыпки. Определение минимальной ширины траншеи и размеров приямков производится по таблицам 6.1 и 6.2 СП 45.13330.201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1590840" y="1165320"/>
            <a:ext cx="64785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текстовых документ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057320" y="5959440"/>
            <a:ext cx="758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7600" y="62229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меется возможность сформировать различные отчетные документы: раскладка труб, определение угла откоса, подбор креплений и т.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2895480" y="822240"/>
            <a:ext cx="3990960" cy="34498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tretch/>
        </p:blipFill>
        <p:spPr>
          <a:xfrm>
            <a:off x="2892600" y="4419720"/>
            <a:ext cx="3993840" cy="17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траншеи на чертеж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4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057320" y="5959440"/>
            <a:ext cx="758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682560" y="1246320"/>
            <a:ext cx="8134560" cy="49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530360"/>
            <a:ext cx="8121600" cy="45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71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определения объемов земляных работ и построения на чертежах траншей  с различными профилями (с естественными откосами, без откосов, с комбинированным профилем) с учетом заданного рельефа местности, максимально возможной крутизны откосов и выбранных способов крепления стен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71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Обеспечивается возможность построения траншей в плане и разрезах, выделения различных видов грунтов с формированием геологических разрезов (колонок грунтов), формирования ведомости объемов работ и обоснования выбора способа крепления стен, размещения колодцев, раскладки труб в траншеи и расчета объема обратной засыпк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71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Имеется возможность подобрать землеройную технику для проведения земляных работ для устройства выбранной траншеи с помощью программного модуля «Подбор землеройной техники»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1144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49320" y="59580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беспечивается определение объемов земляных работ и построение на чертеже траншей  с различными профилями, способами крепления стен и т.д. Возможно построение изображений траншей в плане и разрезах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043000" y="642960"/>
            <a:ext cx="549612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667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транше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55800" y="5008680"/>
            <a:ext cx="758988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Можно указать один или несколько участков, образующих траншею. Участки могут быть разной глубины. При необходимости указывается уклон участ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Геологический разрез задает структуру грунтов для всей траншеи. Имеется возможность сформировать рельеф местности с указанием толщин слоев грунтов в каждой точке рель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зависимости от профиля траншеи доступны разные виды укрепления стенок, в том числе разные способы для участк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428840" y="838080"/>
            <a:ext cx="6708600" cy="41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геологического разрез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055520" y="60530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построении траншей обязательно определяется базовая структура грунтов, включающая их наименования и толщины слое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752480" y="987480"/>
            <a:ext cx="595332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рельеф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055520" y="60530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ельеф можно задать вручную или применить автоматическую расстановку точек рельефа с заданными параметрам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176560" y="878040"/>
            <a:ext cx="5271840" cy="50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геологического разрез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 рельеф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055520" y="618012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необходимости пользователь может уточнить структуру грунтов в разных точках траншеи на рельефе. Можно изменить толщину слоев для каждого узла сетки рель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752480" y="1209600"/>
            <a:ext cx="6172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змещение колодце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055520" y="605304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Можно установить размещение колодцев автоматически или указать на чертеже вручную. Для колодцев задаются их форма (круглый или квадратный), размеры и глуб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2071800" y="773280"/>
            <a:ext cx="5527440" cy="52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способа укрепления стен транше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055520" y="602784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участков траншеи можно установить независимо различные способы крепления стен, при этом отображаются только способы крепления, подходящие по грунтовым условиям и глубине транше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1679400" y="787320"/>
            <a:ext cx="61293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01-10T13:03:14Z</dcterms:modified>
  <cp:revision>338</cp:revision>
  <dc:subject/>
  <dc:title>Слайд 1</dc:title>
</cp:coreProperties>
</file>